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66F-D8B9-47DC-B291-F1305235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743-1F71-4C0E-9919-FE5C9491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7B5-A4F3-41B0-8001-8FCB0AD5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270-6D17-4FF7-A7B3-9739B37B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F960-F731-4DD5-AA2C-6EB82C2D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8FC1-98FB-489E-A632-8A5A9BAA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D7D7-4386-473D-AC9E-366CECA1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7382-4D05-4A37-A649-0537C6E3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0A3F-6460-4070-8F13-EF5F3102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FA1C-9B11-45B5-B47B-80A399B2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2B42-9BA2-47D2-B7AD-8AABA7F8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9EF7-CA09-4EDA-B975-595AC799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3801-779E-464F-BA96-6EB04301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87AA-0411-4240-8EB8-9E68CE87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6966-7543-4303-8169-38490BC6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7792-B448-4D0C-BD5E-FCC5A277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976A-B280-4086-8EE5-9B7A65BD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52F5-825D-4E7F-803B-0F097D88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0E6-0681-40D2-85D9-BF4971D6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46F-1C69-4CE2-AFD0-57F83172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16B-FC54-498A-AFB9-978C27DD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2A3-05FB-466A-B1F7-FF6857F0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550-C72F-40A3-8EFC-6F6C1709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8B5-AFBD-4B74-A155-037650C3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8263-C9B8-439D-95EC-DB8817EA71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6307-8667-4DC3-A6DE-3F58916053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0Je5XPifqJEKl8BY6qHBqMX;_ylu=X3oDMTBwanIybjRqBHBndANhdHdfaW1nX3Jlc3VsdARzZWMDc3I-/SIG=12kgtd342/EXP=1151586402/**http%3A//www.jeanne-sauve.cepeo.on.ca/societe/images/recyclage.gif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av.rds.yahoo.com/_ylt=A0Je5XE9f6JEpS0B94aHBqMX;_ylu=X3oDMTBwanIybjRqBHBndANhdHdfaW1nX3Jlc3VsdARzZWMDc3I-/SIG=123ma8s7r/EXP=1151586493/**http%3A//www.emagictricks.co.uk/images/Lp2859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av.rds.yahoo.com/_ylt=A0Je5XAPbqtEJYYBL1.HBqMX;_ylu=X3oDMTBwanIybjRqBHBndANhdHdfaW1nX3Jlc3VsdARzZWMDc3I-/SIG=11u4396fu/EXP=1152171919/**http%3A//www.ale-lyon.org/ImageEtiketNRJ.gif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av.rds.yahoo.com/_ylt=A0Je5XXacqtE.CYBt16HBqMX;_ylu=X3oDMTBwanIybjRqBHBndANhdHdfaW1nX3Jlc3VsdARzZWMDc3I-/SIG=12u3i6t66/EXP=1152173146/**http%3A//newsimg.bbc.co.uk/media/images/39114000/jpg/_39114577_petrol203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av.rds.yahoo.com/_ylt=A0Je5XJIc6tE1YcAWJ6HBqMX;_ylu=X3oDMTBwanIybjRqBHBndANhdHdfaW1nX3Jlc3VsdARzZWMDc3I-/SIG=12fppc03n/EXP=1152173256/**http%3A//www.ville-bondy.fr/environnement/image/poubelle1.jpg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5280" y="981000"/>
            <a:ext cx="560520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'environnemen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324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Exerci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vais au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e fois par sema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 mère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 verre et le plast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’énergie : nous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télé avant de sor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as la consommation d’ess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jette m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ans la poube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2916360" y="1484280"/>
            <a:ext cx="38145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entre de recyc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2492280"/>
            <a:ext cx="216072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3500280"/>
            <a:ext cx="2808360" cy="50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économi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95640" y="4581360"/>
            <a:ext cx="180000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d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5516640"/>
            <a:ext cx="2016000" cy="433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éch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4005360"/>
            <a:ext cx="237672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éteign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Devoirs : réda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ponds aux questions pour écrire la réda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Quels sont les grands problèmes d’environnement en génér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Qu’est-ce qu’on peut faire pour protéger l’environne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Qu’est-ce que tu fais à la mais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Qu’est ce que tu ne fais pa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(Qu’est-ce qu’il faudrait faire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Quels sont les grands problèmes de l’environnement 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’effet de serre – les CF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 réchauffement de la planè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pollution de l’ea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 pluies aci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pollution atmosphér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 espèces en voie de disparition. Exemple: le pan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27640" y="5445000"/>
            <a:ext cx="1224000" cy="1068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38800" y="5452920"/>
            <a:ext cx="122364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Durée de vie des deche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3564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issé dans les rues ou mis en décharge, le déchet vit encore ! 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La durée de vie d'un déchet dépend bien sûr de sa composition mais aussi des actions que nous faisons tous les jours.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e déchet qui pose le moins de problème, qui ne pollue pas et qui coûte le moins cher, c’est donc celui que l’on ne produit pas !!!!!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-688824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765000"/>
            <a:ext cx="85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570120" y="981000"/>
          <a:ext cx="546588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0120" y="981000"/>
                    <a:ext cx="546588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Les trois “R” de l’environne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dui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 peut réduire…la pollution…la consommation… / le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utilis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 peut réutiliser le / la / le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cycl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 peut recycler le / la /le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Au centre de recyclage,</a:t>
            </a:r>
            <a:br>
              <a:rPr sz="4000"/>
            </a:b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il y a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e plastique, le polystyrè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e papier, le cart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’aluminium, le f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es p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es déchets organiq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Go to fullsize image"/>
          <p:cNvPicPr/>
          <p:nvPr/>
        </p:nvPicPr>
        <p:blipFill>
          <a:blip r:embed="rId1"/>
          <a:stretch/>
        </p:blipFill>
        <p:spPr>
          <a:xfrm>
            <a:off x="6877080" y="4292640"/>
            <a:ext cx="1000080" cy="66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o to fullsize image"/>
          <p:cNvPicPr/>
          <p:nvPr/>
        </p:nvPicPr>
        <p:blipFill>
          <a:blip r:embed="rId2"/>
          <a:stretch/>
        </p:blipFill>
        <p:spPr>
          <a:xfrm>
            <a:off x="3276720" y="5516640"/>
            <a:ext cx="1511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Qu’est-ce que tu fais pour protéger l’environnemen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fais du recyclag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recycle le pap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recycle le plast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recycle le ver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recycle les boîtes en mé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380360" y="213372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88000" y="4797360"/>
            <a:ext cx="505080" cy="180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48360" y="2924280"/>
            <a:ext cx="3240000" cy="649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3573360"/>
            <a:ext cx="0" cy="18003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3429000"/>
            <a:ext cx="2016000" cy="3603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3789360"/>
            <a:ext cx="0" cy="1008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4076640"/>
            <a:ext cx="20160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4076640"/>
            <a:ext cx="0" cy="6476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0360" y="4869000"/>
            <a:ext cx="0" cy="18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6742080"/>
            <a:ext cx="17272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67640" y="6453360"/>
            <a:ext cx="71280" cy="2887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électricité. Par exemple j’éteins les lumières quand je quitte une piè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eau. Par exemple, je ferme le robinet quand je me la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essence. Par exemple, j’utilise le b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1150920" cy="1120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708360" y="3716280"/>
            <a:ext cx="1152720" cy="1119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356000" y="5373720"/>
            <a:ext cx="1224000" cy="1144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804000" y="5373720"/>
            <a:ext cx="1224000" cy="116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24360" y="5805360"/>
            <a:ext cx="935280" cy="360360"/>
          </a:xfrm>
          <a:prstGeom prst="rightArrow">
            <a:avLst>
              <a:gd name="adj1" fmla="val 50000"/>
              <a:gd name="adj2" fmla="val 6488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A la maison, nous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recyclons le papier et le ver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voyageons à pied et en bus souv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réduisons la consommation de plast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MA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ne recyclons pas les canettes en alumini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ne réutilisons pas les sacs en plast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n’éteignons pas les lumières quand nous sortons d’une piè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Perpetua Titling MT"/>
              </a:rPr>
              <a:t>A ton avis, qu’est-ce qu’il </a:t>
            </a: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faudrait</a:t>
            </a:r>
            <a:r>
              <a:rPr b="0" lang="en-GB" sz="4000" spc="-1" strike="noStrike">
                <a:solidFill>
                  <a:srgbClr val="e5ffff"/>
                </a:solidFill>
                <a:latin typeface="Perpetua Titling MT"/>
              </a:rPr>
              <a:t> faire pour plus proteger l’environnement 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mon avis, il faudrait plus recycler tous les déche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 faudrait aussi économiser l’énergie en général: l’électricité et l’ess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Terre n’est pas une poubelle ! Il ne faudrait pas jeter les déchets par ter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4437000"/>
            <a:ext cx="720720" cy="684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7640" y="4437000"/>
            <a:ext cx="865080" cy="644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95640" y="5950080"/>
            <a:ext cx="666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12:41:04Z</dcterms:created>
  <dc:creator>Virginie Passerat</dc:creator>
  <dc:description/>
  <dc:language>en-US</dc:language>
  <cp:lastModifiedBy>Virginie Passerat</cp:lastModifiedBy>
  <dcterms:modified xsi:type="dcterms:W3CDTF">2006-07-12T12:54:57Z</dcterms:modified>
  <cp:revision>67</cp:revision>
  <dc:subject/>
  <dc:title>Slide 1</dc:title>
</cp:coreProperties>
</file>